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A09-41CE-4F74-9429-832FE5C7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96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03F-ADC4-4680-9E9D-A6E68E22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96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9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4AA-7497-4B30-9D18-608EBB59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2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2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96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2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52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823-DAE0-4A8C-82ED-0D75F6D5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96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9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9696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96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96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092-CB2B-490F-B86B-10273425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9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9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9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96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96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96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9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2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52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96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2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52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FF6-85BE-4DF3-A5D2-8C64AE7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9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5B0-C0CC-47FC-B1E4-287A39F7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D63-7174-4004-B2F6-D6D801AC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9696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0E5-6809-430D-A225-0166BC9D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9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563-7FB0-4072-A113-AB8B4E4C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9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9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BC5-9140-4A4D-8742-D1CF7FAF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96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5A0-1364-4367-A5B8-EB7883B4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36680" y="1606680"/>
            <a:ext cx="4648320" cy="365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969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a6e1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89a6e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96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9a6e1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9a6e1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9a6e1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9a6e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9a6e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22440" y="1371600"/>
            <a:ext cx="7916400" cy="101520"/>
            <a:chOff x="622440" y="1371600"/>
            <a:chExt cx="7916400" cy="101520"/>
          </a:xfrm>
        </p:grpSpPr>
        <p:pic>
          <p:nvPicPr>
            <p:cNvPr id="4" name="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2244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90540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118980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147456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175752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>
              <a:off x="204192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9">
              <a:lum bright="70000" contrast="-70000"/>
            </a:blip>
            <a:stretch/>
          </p:blipFill>
          <p:spPr>
            <a:xfrm>
              <a:off x="232668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10">
              <a:lum bright="70000" contrast="-70000"/>
            </a:blip>
            <a:stretch/>
          </p:blipFill>
          <p:spPr>
            <a:xfrm>
              <a:off x="261108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11">
              <a:lum bright="70000" contrast="-70000"/>
            </a:blip>
            <a:stretch/>
          </p:blipFill>
          <p:spPr>
            <a:xfrm>
              <a:off x="289440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12">
              <a:lum bright="70000" contrast="-70000"/>
            </a:blip>
            <a:stretch/>
          </p:blipFill>
          <p:spPr>
            <a:xfrm>
              <a:off x="317916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13">
              <a:lum bright="70000" contrast="-70000"/>
            </a:blip>
            <a:stretch/>
          </p:blipFill>
          <p:spPr>
            <a:xfrm>
              <a:off x="346356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" descr=""/>
            <p:cNvPicPr/>
            <p:nvPr/>
          </p:nvPicPr>
          <p:blipFill>
            <a:blip r:embed="rId14">
              <a:lum bright="70000" contrast="-70000"/>
            </a:blip>
            <a:stretch/>
          </p:blipFill>
          <p:spPr>
            <a:xfrm>
              <a:off x="374796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" descr=""/>
            <p:cNvPicPr/>
            <p:nvPr/>
          </p:nvPicPr>
          <p:blipFill>
            <a:blip r:embed="rId15">
              <a:lum bright="70000" contrast="-70000"/>
            </a:blip>
            <a:stretch/>
          </p:blipFill>
          <p:spPr>
            <a:xfrm>
              <a:off x="403128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" descr=""/>
            <p:cNvPicPr/>
            <p:nvPr/>
          </p:nvPicPr>
          <p:blipFill>
            <a:blip r:embed="rId16">
              <a:lum bright="70000" contrast="-70000"/>
            </a:blip>
            <a:stretch/>
          </p:blipFill>
          <p:spPr>
            <a:xfrm>
              <a:off x="431568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" descr=""/>
            <p:cNvPicPr/>
            <p:nvPr/>
          </p:nvPicPr>
          <p:blipFill>
            <a:blip r:embed="rId17">
              <a:lum bright="70000" contrast="-70000"/>
            </a:blip>
            <a:stretch/>
          </p:blipFill>
          <p:spPr>
            <a:xfrm>
              <a:off x="460008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" descr=""/>
            <p:cNvPicPr/>
            <p:nvPr/>
          </p:nvPicPr>
          <p:blipFill>
            <a:blip r:embed="rId18">
              <a:lum bright="70000" contrast="-70000"/>
            </a:blip>
            <a:stretch/>
          </p:blipFill>
          <p:spPr>
            <a:xfrm>
              <a:off x="488484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" descr=""/>
            <p:cNvPicPr/>
            <p:nvPr/>
          </p:nvPicPr>
          <p:blipFill>
            <a:blip r:embed="rId19">
              <a:lum bright="70000" contrast="-70000"/>
            </a:blip>
            <a:stretch/>
          </p:blipFill>
          <p:spPr>
            <a:xfrm>
              <a:off x="516780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20">
              <a:lum bright="70000" contrast="-70000"/>
            </a:blip>
            <a:stretch/>
          </p:blipFill>
          <p:spPr>
            <a:xfrm>
              <a:off x="545220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21">
              <a:lum bright="70000" contrast="-70000"/>
            </a:blip>
            <a:stretch/>
          </p:blipFill>
          <p:spPr>
            <a:xfrm>
              <a:off x="573696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" descr=""/>
            <p:cNvPicPr/>
            <p:nvPr/>
          </p:nvPicPr>
          <p:blipFill>
            <a:blip r:embed="rId22">
              <a:lum bright="70000" contrast="-70000"/>
            </a:blip>
            <a:stretch/>
          </p:blipFill>
          <p:spPr>
            <a:xfrm>
              <a:off x="602172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" name="" descr=""/>
            <p:cNvPicPr/>
            <p:nvPr/>
          </p:nvPicPr>
          <p:blipFill>
            <a:blip r:embed="rId23">
              <a:lum bright="70000" contrast="-70000"/>
            </a:blip>
            <a:stretch/>
          </p:blipFill>
          <p:spPr>
            <a:xfrm>
              <a:off x="630468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" descr=""/>
            <p:cNvPicPr/>
            <p:nvPr/>
          </p:nvPicPr>
          <p:blipFill>
            <a:blip r:embed="rId24">
              <a:lum bright="70000" contrast="-70000"/>
            </a:blip>
            <a:stretch/>
          </p:blipFill>
          <p:spPr>
            <a:xfrm>
              <a:off x="658944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" descr=""/>
            <p:cNvPicPr/>
            <p:nvPr/>
          </p:nvPicPr>
          <p:blipFill>
            <a:blip r:embed="rId25">
              <a:lum bright="70000" contrast="-70000"/>
            </a:blip>
            <a:stretch/>
          </p:blipFill>
          <p:spPr>
            <a:xfrm>
              <a:off x="687384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" name="" descr=""/>
            <p:cNvPicPr/>
            <p:nvPr/>
          </p:nvPicPr>
          <p:blipFill>
            <a:blip r:embed="rId26">
              <a:lum bright="70000" contrast="-70000"/>
            </a:blip>
            <a:stretch/>
          </p:blipFill>
          <p:spPr>
            <a:xfrm>
              <a:off x="715824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" name="" descr=""/>
            <p:cNvPicPr/>
            <p:nvPr/>
          </p:nvPicPr>
          <p:blipFill>
            <a:blip r:embed="rId27">
              <a:lum bright="70000" contrast="-70000"/>
            </a:blip>
            <a:stretch/>
          </p:blipFill>
          <p:spPr>
            <a:xfrm>
              <a:off x="744156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" descr=""/>
            <p:cNvPicPr/>
            <p:nvPr/>
          </p:nvPicPr>
          <p:blipFill>
            <a:blip r:embed="rId28">
              <a:lum bright="70000" contrast="-70000"/>
            </a:blip>
            <a:stretch/>
          </p:blipFill>
          <p:spPr>
            <a:xfrm>
              <a:off x="772596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" descr=""/>
            <p:cNvPicPr/>
            <p:nvPr/>
          </p:nvPicPr>
          <p:blipFill>
            <a:blip r:embed="rId29">
              <a:lum bright="70000" contrast="-70000"/>
            </a:blip>
            <a:stretch/>
          </p:blipFill>
          <p:spPr>
            <a:xfrm>
              <a:off x="8010360" y="1371600"/>
              <a:ext cx="2440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" name="" descr=""/>
            <p:cNvPicPr/>
            <p:nvPr/>
          </p:nvPicPr>
          <p:blipFill>
            <a:blip r:embed="rId30">
              <a:lum bright="70000" contrast="-70000"/>
            </a:blip>
            <a:stretch/>
          </p:blipFill>
          <p:spPr>
            <a:xfrm>
              <a:off x="8295120" y="1371600"/>
              <a:ext cx="243720" cy="10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7026-B43B-4A9C-B3FE-FDEF0F046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12600" y="2630520"/>
            <a:ext cx="9165600" cy="2873880"/>
            <a:chOff x="-12600" y="2630520"/>
            <a:chExt cx="9165600" cy="2873880"/>
          </a:xfrm>
        </p:grpSpPr>
        <p:sp>
          <p:nvSpPr>
            <p:cNvPr id="72" name=""/>
            <p:cNvSpPr/>
            <p:nvPr/>
          </p:nvSpPr>
          <p:spPr>
            <a:xfrm flipH="1">
              <a:off x="-12600" y="2630520"/>
              <a:ext cx="9165600" cy="182448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-12600" y="4668120"/>
              <a:ext cx="9164160" cy="8362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9000" y="3392640"/>
              <a:ext cx="4581000" cy="1700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3392640"/>
              <a:ext cx="4581000" cy="170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7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a6e1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89a6e1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" Target="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84360" y="1628640"/>
            <a:ext cx="439272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4360" y="1616040"/>
            <a:ext cx="8231040" cy="1631880"/>
            <a:chOff x="684360" y="1616040"/>
            <a:chExt cx="8231040" cy="1631880"/>
          </a:xfrm>
        </p:grpSpPr>
        <p:grpSp>
          <p:nvGrpSpPr>
            <p:cNvPr id="115" name=""/>
            <p:cNvGrpSpPr/>
            <p:nvPr/>
          </p:nvGrpSpPr>
          <p:grpSpPr>
            <a:xfrm>
              <a:off x="2057400" y="1616040"/>
              <a:ext cx="6858000" cy="1631880"/>
              <a:chOff x="2057400" y="1616040"/>
              <a:chExt cx="6858000" cy="1631880"/>
            </a:xfrm>
          </p:grpSpPr>
          <p:sp>
            <p:nvSpPr>
              <p:cNvPr id="116" name=""/>
              <p:cNvSpPr/>
              <p:nvPr/>
            </p:nvSpPr>
            <p:spPr>
              <a:xfrm>
                <a:off x="4197240" y="1616040"/>
                <a:ext cx="199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66"/>
                    </a:solidFill>
                    <a:latin typeface="Arial"/>
                  </a:rPr>
                  <a:t>CORPS DE COMMAND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09680" y="2162160"/>
                <a:ext cx="114300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24480" y="2009520"/>
                <a:ext cx="1143000" cy="53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24480" y="2619360"/>
                <a:ext cx="1143000" cy="5331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20" name=""/>
              <p:cNvGraphicFramePr/>
              <p:nvPr/>
            </p:nvGraphicFramePr>
            <p:xfrm>
              <a:off x="7543800" y="2695320"/>
              <a:ext cx="1219320" cy="533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1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543800" y="2695320"/>
                        <a:ext cx="1219320" cy="53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43800" y="2162160"/>
                <a:ext cx="1219320" cy="5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2133720" y="2786040"/>
                <a:ext cx="93204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6666"/>
                    </a:solidFill>
                    <a:latin typeface="Arial"/>
                  </a:rPr>
                  <a:t>COMMANDA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86400" y="2206440"/>
                <a:ext cx="73080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6666"/>
                    </a:solidFill>
                    <a:latin typeface="Arial"/>
                  </a:rPr>
                  <a:t>CAPITAI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81280" y="2815920"/>
                <a:ext cx="826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6666"/>
                    </a:solidFill>
                    <a:latin typeface="Arial"/>
                  </a:rPr>
                  <a:t>LIEUTENA</a:t>
                </a:r>
                <a:r>
                  <a:rPr b="1" lang="en-US" sz="800" spc="-1" strike="noStrike">
                    <a:solidFill>
                      <a:srgbClr val="008080"/>
                    </a:solidFill>
                    <a:latin typeface="Arial"/>
                  </a:rPr>
                  <a:t>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7280" y="2291760"/>
                <a:ext cx="175284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6666"/>
                    </a:solidFill>
                    <a:latin typeface="Arial"/>
                  </a:rPr>
                  <a:t>LIEUTENANT STAGIAI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5880" y="2858760"/>
                <a:ext cx="144792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6666"/>
                    </a:solidFill>
                    <a:latin typeface="Arial"/>
                  </a:rPr>
                  <a:t>ELÈVE LIEUTENA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57400" y="1628640"/>
                <a:ext cx="6858000" cy="1619280"/>
              </a:xfrm>
              <a:prstGeom prst="rect">
                <a:avLst/>
              </a:prstGeom>
              <a:noFill/>
              <a:ln w="158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84360" y="1949400"/>
              <a:ext cx="1143000" cy="914400"/>
              <a:chOff x="684360" y="1949400"/>
              <a:chExt cx="1143000" cy="914400"/>
            </a:xfrm>
          </p:grpSpPr>
          <p:sp>
            <p:nvSpPr>
              <p:cNvPr id="130" name=""/>
              <p:cNvSpPr/>
              <p:nvPr/>
            </p:nvSpPr>
            <p:spPr>
              <a:xfrm>
                <a:off x="684360" y="1949400"/>
                <a:ext cx="1143000" cy="91440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55640" y="2309760"/>
                <a:ext cx="99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.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755640" y="260280"/>
            <a:ext cx="8153280" cy="1220760"/>
            <a:chOff x="755640" y="260280"/>
            <a:chExt cx="8153280" cy="1220760"/>
          </a:xfrm>
        </p:grpSpPr>
        <p:grpSp>
          <p:nvGrpSpPr>
            <p:cNvPr id="133" name=""/>
            <p:cNvGrpSpPr/>
            <p:nvPr/>
          </p:nvGrpSpPr>
          <p:grpSpPr>
            <a:xfrm>
              <a:off x="2050920" y="260280"/>
              <a:ext cx="6858000" cy="1220760"/>
              <a:chOff x="2050920" y="260280"/>
              <a:chExt cx="6858000" cy="1220760"/>
            </a:xfrm>
          </p:grpSpPr>
          <p:sp>
            <p:nvSpPr>
              <p:cNvPr id="134" name=""/>
              <p:cNvSpPr/>
              <p:nvPr/>
            </p:nvSpPr>
            <p:spPr>
              <a:xfrm>
                <a:off x="3969000" y="269640"/>
                <a:ext cx="2858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0033"/>
                    </a:solidFill>
                    <a:latin typeface="Arial"/>
                  </a:rPr>
                  <a:t>CORPS DE CONCEPTION ET DE DIREC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46200" y="842760"/>
                <a:ext cx="1219320" cy="5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2203200" y="817200"/>
                <a:ext cx="129564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990000"/>
                    </a:solidFill>
                    <a:latin typeface="Arial"/>
                  </a:rPr>
                  <a:t>COMMISSAI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85040" y="793800"/>
                <a:ext cx="1371600" cy="68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5226840" y="1025280"/>
                <a:ext cx="170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990000"/>
                    </a:solidFill>
                    <a:latin typeface="Arial"/>
                  </a:rPr>
                  <a:t>COMMISSAIRE DIVISIONNAI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86520" y="595080"/>
                <a:ext cx="190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90000"/>
                    </a:solidFill>
                    <a:latin typeface="Arial"/>
                  </a:rPr>
                  <a:t>Inspecteur - Contrôleur Génér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050920" y="260280"/>
                <a:ext cx="6858000" cy="1219320"/>
              </a:xfrm>
              <a:prstGeom prst="rect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50920" y="260280"/>
                <a:ext cx="6858000" cy="1219320"/>
              </a:xfrm>
              <a:prstGeom prst="rect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55640" y="549000"/>
              <a:ext cx="1143000" cy="304920"/>
              <a:chOff x="755640" y="549000"/>
              <a:chExt cx="1143000" cy="304920"/>
            </a:xfrm>
          </p:grpSpPr>
          <p:sp>
            <p:nvSpPr>
              <p:cNvPr id="143" name=""/>
              <p:cNvSpPr/>
              <p:nvPr/>
            </p:nvSpPr>
            <p:spPr>
              <a:xfrm>
                <a:off x="755640" y="549000"/>
                <a:ext cx="1143000" cy="30492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26920" y="549000"/>
                <a:ext cx="98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.C.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755640" y="6093000"/>
            <a:ext cx="5259240" cy="533160"/>
            <a:chOff x="755640" y="6093000"/>
            <a:chExt cx="5259240" cy="533160"/>
          </a:xfrm>
        </p:grpSpPr>
        <p:sp>
          <p:nvSpPr>
            <p:cNvPr id="146" name=""/>
            <p:cNvSpPr/>
            <p:nvPr/>
          </p:nvSpPr>
          <p:spPr>
            <a:xfrm>
              <a:off x="755640" y="6181920"/>
              <a:ext cx="1079280" cy="44424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6920" y="629784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cc"/>
                  </a:solidFill>
                  <a:latin typeface="Arial"/>
                </a:rPr>
                <a:t>A.D.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65800" y="6219720"/>
              <a:ext cx="169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ff"/>
                  </a:solidFill>
                  <a:latin typeface="Arial"/>
                </a:rPr>
                <a:t>ADJOINTS DE SÉCURI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9"/>
            <a:stretch/>
          </p:blipFill>
          <p:spPr>
            <a:xfrm>
              <a:off x="4719600" y="6093000"/>
              <a:ext cx="129528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84360" y="3357720"/>
            <a:ext cx="8224560" cy="2520720"/>
            <a:chOff x="684360" y="3357720"/>
            <a:chExt cx="8224560" cy="2520720"/>
          </a:xfrm>
        </p:grpSpPr>
        <p:sp>
          <p:nvSpPr>
            <p:cNvPr id="152" name=""/>
            <p:cNvSpPr/>
            <p:nvPr/>
          </p:nvSpPr>
          <p:spPr>
            <a:xfrm>
              <a:off x="2050920" y="3357720"/>
              <a:ext cx="6858000" cy="251460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84360" y="3357720"/>
              <a:ext cx="7774560" cy="2520720"/>
              <a:chOff x="684360" y="3357720"/>
              <a:chExt cx="7774560" cy="25207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684360" y="3357720"/>
                <a:ext cx="1150920" cy="2520720"/>
                <a:chOff x="684360" y="3357720"/>
                <a:chExt cx="1150920" cy="2520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84360" y="3357720"/>
                  <a:ext cx="1150920" cy="2520720"/>
                </a:xfrm>
                <a:prstGeom prst="rect">
                  <a:avLst/>
                </a:prstGeom>
                <a:solidFill>
                  <a:srgbClr val="afa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26920" y="4478040"/>
                  <a:ext cx="865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66"/>
                      </a:solidFill>
                      <a:latin typeface="Arial"/>
                    </a:rPr>
                    <a:t>C.E.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286360" y="3489480"/>
                <a:ext cx="6172560" cy="2298600"/>
                <a:chOff x="2286360" y="3489480"/>
                <a:chExt cx="6172560" cy="22986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286360" y="4171320"/>
                  <a:ext cx="1153080" cy="1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6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99"/>
                      </a:solidFill>
                      <a:latin typeface="Arial"/>
                    </a:rPr>
                    <a:t>BRIGADIER-MAJ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13080" y="4814640"/>
                  <a:ext cx="1063080" cy="19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99"/>
                      </a:solidFill>
                      <a:latin typeface="Arial"/>
                    </a:rPr>
                    <a:t>BRIGADIER-CHEF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33920" y="3916440"/>
                  <a:ext cx="10792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746520" y="4575240"/>
                  <a:ext cx="1079640" cy="57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733920" y="5184720"/>
                  <a:ext cx="1145880" cy="60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>
                  <a:off x="2637720" y="5348160"/>
                  <a:ext cx="752400" cy="19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99"/>
                      </a:solidFill>
                      <a:latin typeface="Arial"/>
                    </a:rPr>
                    <a:t>BRIGADI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699520" y="4156560"/>
                  <a:ext cx="12524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99"/>
                      </a:solidFill>
                      <a:latin typeface="Arial"/>
                    </a:rPr>
                    <a:t>GARDIEN DE LA PAIX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613840" y="4690800"/>
                  <a:ext cx="155088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99"/>
                      </a:solidFill>
                      <a:latin typeface="Arial"/>
                    </a:rPr>
                    <a:t>GARDIEN DE LA PAIX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99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99"/>
                      </a:solidFill>
                      <a:latin typeface="Arial"/>
                    </a:rPr>
                    <a:t>STAGIAI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639040" y="5301720"/>
                  <a:ext cx="137160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99"/>
                      </a:solidFill>
                      <a:latin typeface="Arial"/>
                    </a:rPr>
                    <a:t>ELÈVE GARDIE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99"/>
                      </a:solidFill>
                      <a:latin typeface="Arial"/>
                    </a:rPr>
                    <a:t>DE LA PAIX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239600" y="4002120"/>
                  <a:ext cx="1011240" cy="547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227000" y="5216760"/>
                  <a:ext cx="1219320" cy="56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>
                  <a:off x="3892320" y="3489480"/>
                  <a:ext cx="302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99"/>
                      </a:solidFill>
                      <a:latin typeface="Arial"/>
                    </a:rPr>
                    <a:t>CORPS D’ENCADREMENT  ET D’AP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239600" y="4606920"/>
                  <a:ext cx="1219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 spd="slow"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2:36:27Z</dcterms:created>
  <dc:creator>FL</dc:creator>
  <dc:description/>
  <dc:language>en-US</dc:language>
  <cp:lastModifiedBy>0126340</cp:lastModifiedBy>
  <cp:lastPrinted>2008-11-10T14:00:27Z</cp:lastPrinted>
  <dcterms:modified xsi:type="dcterms:W3CDTF">2008-11-10T14:00:34Z</dcterms:modified>
  <cp:revision>286</cp:revision>
  <dc:subject/>
  <dc:title>Direction générale de la police nationale</dc:title>
</cp:coreProperties>
</file>